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15728189858229"/>
          <c:y val="0.119467396452818"/>
          <c:w val="0.693258077418781"/>
          <c:h val="0.820956791747803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Pt>
            <c:idx val="4"/>
            <c:spPr>
              <a:solidFill>
                <a:srgbClr val="7e0021"/>
              </a:solidFill>
              <a:ln w="0">
                <a:noFill/>
              </a:ln>
            </c:spPr>
          </c:dPt>
          <c:dPt>
            <c:idx val="5"/>
            <c:spPr>
              <a:solidFill>
                <a:srgbClr val="83caff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6"/>
                <c:pt idx="0">
                  <c:v>ЗЕМЕЛЬНЫЙ НАЛОГ</c:v>
                </c:pt>
                <c:pt idx="1">
                  <c:v>НДФЛ</c:v>
                </c:pt>
                <c:pt idx="2">
                  <c:v>АРЕНДНАЯ ПЛАТА ЗА ЗЕМЛЮ</c:v>
                </c:pt>
                <c:pt idx="3">
                  <c:v>НАЛОГ НА ИМУЩЕСТВО ФИЗ ЛИЦ</c:v>
                </c:pt>
                <c:pt idx="4">
                  <c:v>ЕСХН</c:v>
                </c:pt>
                <c:pt idx="5">
                  <c:v>ПРОДАЖА ЗЕМЕЛЬНЫХ УЧАСТК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5.7</c:v>
                </c:pt>
                <c:pt idx="1">
                  <c:v>2.9</c:v>
                </c:pt>
                <c:pt idx="2">
                  <c:v>0.627</c:v>
                </c:pt>
                <c:pt idx="3">
                  <c:v>0.316</c:v>
                </c:pt>
                <c:pt idx="4">
                  <c:v>0.415</c:v>
                </c:pt>
                <c:pt idx="5">
                  <c:v>0.02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Pt>
            <c:idx val="4"/>
            <c:spPr>
              <a:solidFill>
                <a:srgbClr val="7e0021"/>
              </a:solidFill>
              <a:ln w="0">
                <a:noFill/>
              </a:ln>
            </c:spPr>
          </c:dPt>
          <c:dPt>
            <c:idx val="5"/>
            <c:spPr>
              <a:solidFill>
                <a:srgbClr val="83caff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6"/>
                <c:pt idx="0">
                  <c:v>ЗЕМЕЛЬНЫЙ НАЛОГ</c:v>
                </c:pt>
                <c:pt idx="1">
                  <c:v>НДФЛ</c:v>
                </c:pt>
                <c:pt idx="2">
                  <c:v>АРЕНДНАЯ ПЛАТА ЗА ЗЕМЛЮ</c:v>
                </c:pt>
                <c:pt idx="3">
                  <c:v>НАЛОГ НА ИМУЩЕСТВО ФИЗ ЛИЦ</c:v>
                </c:pt>
                <c:pt idx="4">
                  <c:v>ЕСХН</c:v>
                </c:pt>
                <c:pt idx="5">
                  <c:v>ПРОДАЖА ЗЕМЕЛЬНЫХ УЧАСТКОВ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Pt>
            <c:idx val="4"/>
            <c:spPr>
              <a:solidFill>
                <a:srgbClr val="7e0021"/>
              </a:solidFill>
              <a:ln w="0">
                <a:noFill/>
              </a:ln>
            </c:spPr>
          </c:dPt>
          <c:dPt>
            <c:idx val="5"/>
            <c:spPr>
              <a:solidFill>
                <a:srgbClr val="83caff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6"/>
                <c:pt idx="0">
                  <c:v>ЗЕМЕЛЬНЫЙ НАЛОГ</c:v>
                </c:pt>
                <c:pt idx="1">
                  <c:v>НДФЛ</c:v>
                </c:pt>
                <c:pt idx="2">
                  <c:v>АРЕНДНАЯ ПЛАТА ЗА ЗЕМЛЮ</c:v>
                </c:pt>
                <c:pt idx="3">
                  <c:v>НАЛОГ НА ИМУЩЕСТВО ФИЗ ЛИЦ</c:v>
                </c:pt>
                <c:pt idx="4">
                  <c:v>ЕСХН</c:v>
                </c:pt>
                <c:pt idx="5">
                  <c:v>ПРОДАЖА ЗЕМЕЛЬНЫХ УЧАСТКОВ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ED4-0596-4DF0-8009-50998261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369-91BA-41F5-A60E-0D2F22BE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0F0-7624-4CB1-A42A-094A7531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FA7-0EC5-40AF-AE3E-BFD90BC5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EBE-66D5-4557-910D-D4EC3841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24D-DB90-4E88-A41F-BDC0959C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9BF-3755-4BD8-B1EA-E55DE609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4F9-39E2-45FF-A1E9-80E2C3B8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4B5-6979-4E6B-A3A3-03BF2730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A10-3588-4A84-A7EE-B1893245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FEC-6566-4718-94DA-CCD4BAD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2A9-98CE-4BE4-906B-54886447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53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5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CD0D8-FD9D-47AE-B7EE-9F368F766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уктура бюджета журавского сельского поселения 2013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0" y="900000"/>
          <a:ext cx="8099640" cy="684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600360" cy="95727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Земельный налог-57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-5,7 млн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420e"/>
                </a:solidFill>
                <a:latin typeface="Arial"/>
              </a:rPr>
              <a:t>НДФЛ-29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420e"/>
                </a:solidFill>
                <a:latin typeface="Arial"/>
              </a:rPr>
              <a:t>-2,9 млн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950e"/>
                </a:solidFill>
                <a:latin typeface="Arial"/>
              </a:rPr>
              <a:t>Арендная плата за землю-6,0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950e"/>
                </a:solidFill>
                <a:latin typeface="Arial"/>
              </a:rPr>
              <a:t>- 0,627 млн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5c8526"/>
                </a:solidFill>
                <a:latin typeface="Arial"/>
              </a:rPr>
              <a:t>Налог на имущество физических лиц-3,0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5c8526"/>
                </a:solidFill>
                <a:latin typeface="Arial"/>
              </a:rPr>
              <a:t>-0,316 мил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ЕСХН-4,0%-0,415 млн.руб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539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4d1"/>
                </a:solidFill>
                <a:latin typeface="Arial"/>
              </a:rPr>
              <a:t>Продажа земельных участков-1,0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53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4d1"/>
                </a:solidFill>
                <a:latin typeface="Arial"/>
              </a:rPr>
              <a:t>-0,021 млн.руб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Марина Боровец</cp:lastModifiedBy>
  <cp:lastPrinted>2013-03-06T09:36:56Z</cp:lastPrinted>
  <dcterms:modified xsi:type="dcterms:W3CDTF">2014-04-07T11:28:41Z</dcterms:modified>
  <cp:revision>5</cp:revision>
  <dc:subject/>
  <dc:title/>
</cp:coreProperties>
</file>