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38571619039154"/>
          <c:y val="0.188463765064997"/>
          <c:w val="0.605306430825297"/>
          <c:h val="0.7168570075259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spPr>
              <a:solidFill>
                <a:srgbClr val="ff420e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spPr>
              <a:solidFill>
                <a:srgbClr val="ffd320"/>
              </a:solidFill>
              <a:ln w="0">
                <a:solidFill>
                  <a:srgbClr val="000000"/>
                </a:solidFill>
              </a:ln>
            </c:spPr>
          </c:dPt>
          <c:dPt>
            <c:idx val="3"/>
            <c:spPr>
              <a:solidFill>
                <a:srgbClr val="579d1c"/>
              </a:solidFill>
              <a:ln w="0">
                <a:solidFill>
                  <a:srgbClr val="000000"/>
                </a:solidFill>
              </a:ln>
            </c:spPr>
          </c:dPt>
          <c:dPt>
            <c:idx val="4"/>
            <c:spPr>
              <a:solidFill>
                <a:srgbClr val="7e0021"/>
              </a:solidFill>
              <a:ln w="0">
                <a:solidFill>
                  <a:srgbClr val="000000"/>
                </a:solidFill>
              </a:ln>
            </c:spPr>
          </c:dPt>
          <c:dPt>
            <c:idx val="5"/>
            <c:spPr>
              <a:solidFill>
                <a:srgbClr val="83caff"/>
              </a:solidFill>
              <a:ln w="0">
                <a:solidFill>
                  <a:srgbClr val="000000"/>
                </a:solidFill>
              </a:ln>
            </c:spPr>
          </c:dPt>
          <c:dPt>
            <c:idx val="6"/>
            <c:spPr>
              <a:solidFill>
                <a:srgbClr val="314004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numFmt formatCode="General" sourceLinked="0"/>
              <c:txPr>
                <a:bodyPr wrap="none"/>
                <a:lstStyle/>
                <a:p>
                  <a:pPr>
                    <a:defRPr b="1" i="1" sz="13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0"/>
              <c:txPr>
                <a:bodyPr wrap="none"/>
                <a:lstStyle/>
                <a:p>
                  <a:pPr>
                    <a:defRPr b="1" i="1" sz="13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0"/>
              <c:txPr>
                <a:bodyPr wrap="none"/>
                <a:lstStyle/>
                <a:p>
                  <a:pPr>
                    <a:defRPr b="1" i="1" sz="13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0"/>
              <c:txPr>
                <a:bodyPr wrap="none"/>
                <a:lstStyle/>
                <a:p>
                  <a:pPr>
                    <a:defRPr b="1" i="1" sz="13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4"/>
              <c:numFmt formatCode="General" sourceLinked="0"/>
              <c:txPr>
                <a:bodyPr wrap="none"/>
                <a:lstStyle/>
                <a:p>
                  <a:pPr>
                    <a:defRPr b="1" i="1" sz="13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1" i="1" sz="13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1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1" i="1" sz="13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1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1" i="1" sz="13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1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7"/>
                <c:pt idx="0">
                  <c:v>ЗЕМЕЛЬНЫЙ НАЛОГ</c:v>
                </c:pt>
                <c:pt idx="1">
                  <c:v>НДФЛ</c:v>
                </c:pt>
                <c:pt idx="2">
                  <c:v>АРЕНДНАЯ ПЛАТА ЗА ЗЕМЛЮ</c:v>
                </c:pt>
                <c:pt idx="3">
                  <c:v>БЮДЖЕТЫ ДР.УРОВНЕЙ</c:v>
                </c:pt>
                <c:pt idx="4">
                  <c:v>АКЦИЗЫ НА БЕНЗИН</c:v>
                </c:pt>
                <c:pt idx="5">
                  <c:v>НАЛОГ НА ИМУЩЕСТВО ФИЗ ЛИЦ</c:v>
                </c:pt>
                <c:pt idx="6">
                  <c:v>ЕСХН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5711</c:v>
                </c:pt>
                <c:pt idx="1">
                  <c:v>2253</c:v>
                </c:pt>
                <c:pt idx="2">
                  <c:v>424.5</c:v>
                </c:pt>
                <c:pt idx="3">
                  <c:v>1958.5</c:v>
                </c:pt>
                <c:pt idx="4">
                  <c:v>2328.8</c:v>
                </c:pt>
                <c:pt idx="5">
                  <c:v>256.3</c:v>
                </c:pt>
                <c:pt idx="6">
                  <c:v>378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AFC-0B79-4A74-90A2-303FE779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CBC-8D79-4739-BC15-0C73F93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082-13A1-42CE-8F1D-8C2C9A7E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CB5-E33D-4A19-B0A1-1D385631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F70-6AD0-4763-A95C-53DA00B8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8BB-8987-4671-A1F6-8EB76490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1CE-2F16-49BF-B10C-A0932EDF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184-368C-4C52-BC82-C991058C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19D-0AF3-45F4-9229-5A32964C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A74-D15B-4236-8945-502B478D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6C6-8E8F-4358-AF4A-EFC2DCBE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E46-A674-442D-862A-41A8F5A6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E85C4-B4CB-4013-ADA7-941D49BB1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НОЗ ДОХОДОВ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2014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0" y="900000"/>
          <a:ext cx="8099640" cy="684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080" y="502920"/>
            <a:ext cx="360036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Земельный налог-43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-5711 тыс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Акцизы на бензин-17,5% -2328,8 тыс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420e"/>
                </a:solidFill>
                <a:latin typeface="Arial"/>
              </a:rPr>
              <a:t>НДФЛ-17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420e"/>
                </a:solidFill>
                <a:latin typeface="Arial"/>
              </a:rPr>
              <a:t>-2253 тыс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950e"/>
                </a:solidFill>
                <a:latin typeface="Arial"/>
              </a:rPr>
              <a:t>Арендная плата за землю-3,2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950e"/>
                </a:solidFill>
                <a:latin typeface="Arial"/>
              </a:rPr>
              <a:t>-424,9 тыс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5c8526"/>
                </a:solidFill>
                <a:latin typeface="Arial"/>
              </a:rPr>
              <a:t>Налог на имущество физических лиц-1,9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5c8526"/>
                </a:solidFill>
                <a:latin typeface="Arial"/>
              </a:rPr>
              <a:t>-256,3 тыс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ЕСХН-2,8%-378 тыс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Безвозмездные поступления -14,7% -1958,5тыс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Марина Боровец</cp:lastModifiedBy>
  <cp:lastPrinted>2013-03-11T05:34:05Z</cp:lastPrinted>
  <dcterms:modified xsi:type="dcterms:W3CDTF">2014-04-08T10:26:25Z</dcterms:modified>
  <cp:revision>8</cp:revision>
  <dc:subject/>
  <dc:title/>
</cp:coreProperties>
</file>