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2"/>
                <c:lvl/>
                <c:lvl>
                  <c:pt idx="0">
                    <c:v>х.Казаче-Малеваный</c:v>
                  </c:pt>
                  <c:pt idx="1">
                    <c:v>ст.Журавская</c:v>
                  </c:pt>
                </c:lvl>
              </c:multiLvlStrCache>
            </c:multiLvlStrRef>
          </c:cat>
          <c:val>
            <c:numRef>
              <c:f>1</c:f>
              <c:numCache>
                <c:formatCode>General</c:formatCode>
                <c:ptCount val="2"/>
                <c:pt idx="0">
                  <c:v>347</c:v>
                </c:pt>
                <c:pt idx="1">
                  <c:v>1519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2"/>
                <c:lvl/>
                <c:lvl>
                  <c:pt idx="0">
                    <c:v>х.Казаче-Малеваный</c:v>
                  </c:pt>
                  <c:pt idx="1">
                    <c:v>ст.Журавская</c:v>
                  </c:pt>
                </c:lvl>
              </c:multiLvlStrCache>
            </c:multiLvlStrRef>
          </c:cat>
          <c:val>
            <c:numRef>
              <c:f>2</c:f>
              <c:numCache>
                <c:formatCode>General</c:formatCode>
                <c:ptCount val="2"/>
                <c:pt idx="0">
                  <c:v>172</c:v>
                </c:pt>
                <c:pt idx="1">
                  <c:v>672</c:v>
                </c:pt>
              </c:numCache>
            </c:numRef>
          </c:val>
        </c:ser>
        <c:ser>
          <c:idx val="2"/>
          <c:order val="2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2"/>
                <c:lvl/>
                <c:lvl>
                  <c:pt idx="0">
                    <c:v>х.Казаче-Малеваный</c:v>
                  </c:pt>
                  <c:pt idx="1">
                    <c:v>ст.Журавская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2"/>
                <c:pt idx="0">
                  <c:v>92</c:v>
                </c:pt>
                <c:pt idx="1">
                  <c:v>433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2"/>
                <c:lvl/>
                <c:lvl>
                  <c:pt idx="0">
                    <c:v>х.Казаче-Малеваный</c:v>
                  </c:pt>
                  <c:pt idx="1">
                    <c:v>ст.Журавская</c:v>
                  </c:pt>
                </c:lvl>
              </c:multiLvlStrCache>
            </c:multiLvlStrRef>
          </c:cat>
          <c:val>
            <c:numRef>
              <c:f>3</c:f>
              <c:numCache>
                <c:formatCode>General</c:formatCode>
                <c:ptCount val="2"/>
                <c:pt idx="0">
                  <c:v>28</c:v>
                </c:pt>
                <c:pt idx="1">
                  <c:v>136</c:v>
                </c:pt>
              </c:numCache>
            </c:numRef>
          </c:val>
        </c:ser>
        <c:gapWidth val="100"/>
        <c:overlap val="0"/>
        <c:axId val="30281048"/>
        <c:axId val="95931928"/>
      </c:barChart>
      <c:catAx>
        <c:axId val="3028104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1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31928"/>
        <c:crosses val="autoZero"/>
        <c:auto val="1"/>
        <c:lblAlgn val="ctr"/>
        <c:lblOffset val="100"/>
        <c:noMultiLvlLbl val="0"/>
      </c:catAx>
      <c:valAx>
        <c:axId val="95931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1600" spc="-1" strike="noStrike">
                    <a:solidFill>
                      <a:srgbClr val="000000"/>
                    </a:solidFill>
                    <a:latin typeface="Arial"/>
                  </a:rPr>
                  <a:t>человек</a:t>
                </a:r>
              </a:p>
            </c:rich>
          </c:tx>
          <c:layout>
            <c:manualLayout>
              <c:xMode val="edge"/>
              <c:yMode val="edge"/>
              <c:x val="0.0118295957616663"/>
              <c:y val="0.078808661967358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81048"/>
        <c:crossesAt val="1"/>
        <c:crossBetween val="between"/>
      </c:valAx>
      <c:spPr>
        <a:noFill/>
        <a:ln w="0">
          <a:solidFill>
            <a:srgbClr val="b3b3b3"/>
          </a:solidFill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54403"/>
        <c:axId val="55543135"/>
      </c:barChart>
      <c:catAx>
        <c:axId val="85354403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43135"/>
        <c:crosses val="autoZero"/>
        <c:auto val="1"/>
        <c:lblAlgn val="ctr"/>
        <c:lblOffset val="100"/>
        <c:noMultiLvlLbl val="0"/>
      </c:catAx>
      <c:valAx>
        <c:axId val="55543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54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6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8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1E1BBB0-5407-49AA-97C9-DF8C0C8E4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A6669F0-D024-4602-B846-B5ABA7427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5CF-58D2-4066-82C5-EF2A04B3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A62-FDA4-4ABF-92C4-2BBC0397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6AE-2C7C-4742-BF3E-DB29386A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07C-3BC6-4A70-ADA7-DD8AA8F5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B4B9-3746-4139-84D5-60B397A2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F3F4-C233-4BA0-913B-CA8114D0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8AAF-FAB6-4F8E-AE85-5AAFBCDF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FF62-E2D6-41B7-B975-63199936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1B45-BE5A-4B06-920F-E625A786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387C-181E-4883-9478-8CA2ED45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A87F-220D-418A-AC2B-FC54270D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541-C54F-420F-9739-16B7055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997F-E70B-4C35-B490-D0084B2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B256-0DC9-4D0A-A074-63874242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85BD-E7AD-4730-BD1C-3331AECC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4B4E-638B-4EA6-9C16-056B116C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EA9E-3FEB-4C6F-B1D2-40401751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3AF2-03A7-4CFF-BE72-3C6E640C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4FB8-A66F-4C2A-B4C1-B979A4DB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7D19-0C07-4D01-803A-EFED088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F73B-0BB8-4AFD-9650-DAA1E837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D1B6-4168-4A86-A1D0-1174C585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BE2-D092-4568-90BB-FAC31126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8E3F-9292-4007-AB1F-4CE768DE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304C-0C38-479B-9C21-787A84C1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1741-2350-4830-81E0-7FFF5EE0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A778-0076-4D53-864E-F99D6838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9FC9-10EA-4ACD-9588-856751D6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C860-AF43-4697-AF19-5F8D2B79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B69C-99A2-40C5-89C6-F8BCA007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E86E-A7F3-4073-A35A-AAFFF164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96A8-98E0-4CBD-9F60-FBEB151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A32B-A0FE-40D6-91EA-D1AF21F1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5E1-5FCA-4823-9A53-FEF9CB2D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64D85-99FC-4E84-A30D-0537D351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F850C-8160-45F1-BD7D-BE8C8DC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DDD6-DA4A-4DB9-BD6A-DA687C74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7E9C-0CA7-4323-B68C-17C9913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EE4A-16C7-4293-80CF-B5B6DACC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ABBD-E187-4F61-9065-B99A634C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B070-3845-42B7-9042-0A73E065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4C61-12D6-4755-8DB3-38830D63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37BC-8A7A-4B4B-8C51-1E0F90BD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1745-48D4-4100-8E53-B6E1B4CF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D68-9E66-445A-9A4C-38623420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59A95-2A64-44CC-AFF5-80E84904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E180E-A8FA-464C-95E1-DBFC4763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D930C-6A2D-4F10-9DF8-1210A4AE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42DAF-5E55-465A-BDB2-2BC70B74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1F865-8C46-422D-BE55-169A69E1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1624C-DCC1-4414-BD62-9B7E5B0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3270-365F-4ACF-BC95-38936D7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6BA9C-2843-4614-A43A-ECE5C60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8DCBA-E435-426D-B416-8518BFCB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A2E7-83DE-4485-86EB-D8058C62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CCE-2A13-4266-BC97-E4A67A27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79DD2-E2A8-409B-B05E-9EED41C1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F7A-1B3C-4408-B725-AAA2DA06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67C-A321-4819-AEFA-F523361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13F-D750-475D-955B-25FE22DF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5205585-9C8A-4568-A837-7E710A4D7A17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1EE1727-E249-4642-99F3-B9B5EE5E5999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D8C9ED2-0AD7-4C1C-9103-253095F30805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ED116EC-A818-439B-8F1B-BB152D56AA8F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3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3C2C9E8-004A-4AB7-8666-2A94647DEBC5}" type="slidenum">
              <a:rPr b="1" lang="en-US" sz="13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chart" Target="../charts/chart1.xml"/><Relationship Id="rId3" Type="http://schemas.openxmlformats.org/officeDocument/2006/relationships/chart" Target="../charts/chart2.xml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1" descr=""/>
          <p:cNvPicPr/>
          <p:nvPr/>
        </p:nvPicPr>
        <p:blipFill>
          <a:blip r:embed="rId1"/>
          <a:stretch/>
        </p:blipFill>
        <p:spPr>
          <a:xfrm>
            <a:off x="506520" y="6480"/>
            <a:ext cx="932652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ct 2"/>
          <p:cNvGraphicFramePr/>
          <p:nvPr/>
        </p:nvGraphicFramePr>
        <p:xfrm>
          <a:off x="174600" y="1114560"/>
          <a:ext cx="4959360" cy="5668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74" name="Object 3"/>
          <p:cNvGraphicFramePr/>
          <p:nvPr/>
        </p:nvGraphicFramePr>
        <p:xfrm>
          <a:off x="5151600" y="1768320"/>
          <a:ext cx="4425840" cy="4899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284800" y="1800360"/>
          <a:ext cx="4383000" cy="4736880"/>
        </p:xfrm>
        <a:graphic>
          <a:graphicData uri="http://schemas.openxmlformats.org/drawingml/2006/table">
            <a:tbl>
              <a:tblPr/>
              <a:tblGrid>
                <a:gridCol w="642960"/>
                <a:gridCol w="3740040"/>
              </a:tblGrid>
              <a:tr h="5590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320"/>
                    </a:solidFill>
                  </a:tcPr>
                </a:tc>
                <a:tc rowSpan="2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586"/>
                    </a:solidFill>
                  </a:tcPr>
                </a:tc>
                <a:tc rowSpan="2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9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526"/>
                    </a:solidFill>
                  </a:tcPr>
                </a:tc>
                <a:tc rowSpan="2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ОТ 0 ДО 14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9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3366"/>
                    </a:solidFill>
                  </a:tcPr>
                </a:tc>
                <a:tc rowSpan="2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ОТ 15 ДО 1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1"/>
          <p:cNvSpPr/>
          <p:nvPr/>
        </p:nvSpPr>
        <p:spPr>
          <a:xfrm>
            <a:off x="2303640" y="6443640"/>
            <a:ext cx="1854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ASUS</cp:lastModifiedBy>
  <cp:lastPrinted>2013-03-07T05:32:23Z</cp:lastPrinted>
  <dcterms:modified xsi:type="dcterms:W3CDTF">2014-04-10T07:10:19Z</dcterms:modified>
  <cp:revision>4</cp:revision>
  <dc:subject/>
  <dc:title>СТРУКТУРА НАСЕЛЕНИЯ </dc:title>
</cp:coreProperties>
</file>