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1"/>
      <c:rotY val="25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337765811308314"/>
          <c:y val="0.0268838564428553"/>
          <c:w val="0.641463816693225"/>
          <c:h val="0.930141703085684"/>
        </c:manualLayout>
      </c:layout>
      <c:bar3DChart>
        <c:barDir val="bar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ОСВЕЩЕНИЕ</c:v>
                </c:pt>
                <c:pt idx="1">
                  <c:v>СПОРТ</c:v>
                </c:pt>
                <c:pt idx="2">
                  <c:v>ГРАДОСТРОИТЕЛЬСТВО</c:v>
                </c:pt>
                <c:pt idx="3">
                  <c:v>ГАЗИФИКАЦИЯ</c:v>
                </c:pt>
                <c:pt idx="4">
                  <c:v>ГО И ЧС</c:v>
                </c:pt>
                <c:pt idx="5">
                  <c:v>ПОЖАР.БЕЗОПАС.</c:v>
                </c:pt>
                <c:pt idx="6">
                  <c:v>ДОРОГИ</c:v>
                </c:pt>
                <c:pt idx="7">
                  <c:v>БЛАГОУСТРОЙСТВО</c:v>
                </c:pt>
                <c:pt idx="8">
                  <c:v>ЦЕЛЕВЫЕ ПРОГРАММЫ</c:v>
                </c:pt>
                <c:pt idx="9">
                  <c:v>КУЛЬТУР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3">
                  <c:v>1.7</c:v>
                </c:pt>
                <c:pt idx="5">
                  <c:v>0.2</c:v>
                </c:pt>
                <c:pt idx="9">
                  <c:v>6.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ОСВЕЩЕНИЕ</c:v>
                </c:pt>
                <c:pt idx="1">
                  <c:v>СПОРТ</c:v>
                </c:pt>
                <c:pt idx="2">
                  <c:v>ГРАДОСТРОИТЕЛЬСТВО</c:v>
                </c:pt>
                <c:pt idx="3">
                  <c:v>ГАЗИФИКАЦИЯ</c:v>
                </c:pt>
                <c:pt idx="4">
                  <c:v>ГО И ЧС</c:v>
                </c:pt>
                <c:pt idx="5">
                  <c:v>ПОЖАР.БЕЗОПАС.</c:v>
                </c:pt>
                <c:pt idx="6">
                  <c:v>ДОРОГИ</c:v>
                </c:pt>
                <c:pt idx="7">
                  <c:v>БЛАГОУСТРОЙСТВО</c:v>
                </c:pt>
                <c:pt idx="8">
                  <c:v>ЦЕЛЕВЫЕ ПРОГРАММЫ</c:v>
                </c:pt>
                <c:pt idx="9">
                  <c:v>КУЛЬТУРА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"/>
                <c:pt idx="0">
                  <c:v>0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ОСВЕЩЕНИЕ</c:v>
                </c:pt>
                <c:pt idx="1">
                  <c:v>СПОРТ</c:v>
                </c:pt>
                <c:pt idx="2">
                  <c:v>ГРАДОСТРОИТЕЛЬСТВО</c:v>
                </c:pt>
                <c:pt idx="3">
                  <c:v>ГАЗИФИКАЦИЯ</c:v>
                </c:pt>
                <c:pt idx="4">
                  <c:v>ГО И ЧС</c:v>
                </c:pt>
                <c:pt idx="5">
                  <c:v>ПОЖАР.БЕЗОПАС.</c:v>
                </c:pt>
                <c:pt idx="6">
                  <c:v>ДОРОГИ</c:v>
                </c:pt>
                <c:pt idx="7">
                  <c:v>БЛАГОУСТРОЙСТВО</c:v>
                </c:pt>
                <c:pt idx="8">
                  <c:v>ЦЕЛЕВЫЕ ПРОГРАММЫ</c:v>
                </c:pt>
                <c:pt idx="9">
                  <c:v>КУЛЬТУРА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0"/>
                <c:pt idx="8">
                  <c:v>2.8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ОСВЕЩЕНИЕ</c:v>
                </c:pt>
                <c:pt idx="1">
                  <c:v>СПОРТ</c:v>
                </c:pt>
                <c:pt idx="2">
                  <c:v>ГРАДОСТРОИТЕЛЬСТВО</c:v>
                </c:pt>
                <c:pt idx="3">
                  <c:v>ГАЗИФИКАЦИЯ</c:v>
                </c:pt>
                <c:pt idx="4">
                  <c:v>ГО И ЧС</c:v>
                </c:pt>
                <c:pt idx="5">
                  <c:v>ПОЖАР.БЕЗОПАС.</c:v>
                </c:pt>
                <c:pt idx="6">
                  <c:v>ДОРОГИ</c:v>
                </c:pt>
                <c:pt idx="7">
                  <c:v>БЛАГОУСТРОЙСТВО</c:v>
                </c:pt>
                <c:pt idx="8">
                  <c:v>ЦЕЛЕВЫЕ ПРОГРАММЫ</c:v>
                </c:pt>
                <c:pt idx="9">
                  <c:v>КУЛЬТУРА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0"/>
                <c:pt idx="4">
                  <c:v>0.2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7e0021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ОСВЕЩЕНИЕ</c:v>
                </c:pt>
                <c:pt idx="1">
                  <c:v>СПОРТ</c:v>
                </c:pt>
                <c:pt idx="2">
                  <c:v>ГРАДОСТРОИТЕЛЬСТВО</c:v>
                </c:pt>
                <c:pt idx="3">
                  <c:v>ГАЗИФИКАЦИЯ</c:v>
                </c:pt>
                <c:pt idx="4">
                  <c:v>ГО И ЧС</c:v>
                </c:pt>
                <c:pt idx="5">
                  <c:v>ПОЖАР.БЕЗОПАС.</c:v>
                </c:pt>
                <c:pt idx="6">
                  <c:v>ДОРОГИ</c:v>
                </c:pt>
                <c:pt idx="7">
                  <c:v>БЛАГОУСТРОЙСТВО</c:v>
                </c:pt>
                <c:pt idx="8">
                  <c:v>ЦЕЛЕВЫЕ ПРОГРАММЫ</c:v>
                </c:pt>
                <c:pt idx="9">
                  <c:v>КУЛЬТУРА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10"/>
                <c:pt idx="7">
                  <c:v>2.8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83ca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ОСВЕЩЕНИЕ</c:v>
                </c:pt>
                <c:pt idx="1">
                  <c:v>СПОРТ</c:v>
                </c:pt>
                <c:pt idx="2">
                  <c:v>ГРАДОСТРОИТЕЛЬСТВО</c:v>
                </c:pt>
                <c:pt idx="3">
                  <c:v>ГАЗИФИКАЦИЯ</c:v>
                </c:pt>
                <c:pt idx="4">
                  <c:v>ГО И ЧС</c:v>
                </c:pt>
                <c:pt idx="5">
                  <c:v>ПОЖАР.БЕЗОПАС.</c:v>
                </c:pt>
                <c:pt idx="6">
                  <c:v>ДОРОГИ</c:v>
                </c:pt>
                <c:pt idx="7">
                  <c:v>БЛАГОУСТРОЙСТВО</c:v>
                </c:pt>
                <c:pt idx="8">
                  <c:v>ЦЕЛЕВЫЕ ПРОГРАММЫ</c:v>
                </c:pt>
                <c:pt idx="9">
                  <c:v>КУЛЬТУРА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10"/>
                <c:pt idx="2">
                  <c:v>0.4</c:v>
                </c:pt>
              </c:numCache>
            </c:numRef>
          </c:val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314004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ОСВЕЩЕНИЕ</c:v>
                </c:pt>
                <c:pt idx="1">
                  <c:v>СПОРТ</c:v>
                </c:pt>
                <c:pt idx="2">
                  <c:v>ГРАДОСТРОИТЕЛЬСТВО</c:v>
                </c:pt>
                <c:pt idx="3">
                  <c:v>ГАЗИФИКАЦИЯ</c:v>
                </c:pt>
                <c:pt idx="4">
                  <c:v>ГО И ЧС</c:v>
                </c:pt>
                <c:pt idx="5">
                  <c:v>ПОЖАР.БЕЗОПАС.</c:v>
                </c:pt>
                <c:pt idx="6">
                  <c:v>ДОРОГИ</c:v>
                </c:pt>
                <c:pt idx="7">
                  <c:v>БЛАГОУСТРОЙСТВО</c:v>
                </c:pt>
                <c:pt idx="8">
                  <c:v>ЦЕЛЕВЫЕ ПРОГРАММЫ</c:v>
                </c:pt>
                <c:pt idx="9">
                  <c:v>КУЛЬТУРА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10"/>
                <c:pt idx="1">
                  <c:v>0.2</c:v>
                </c:pt>
              </c:numCache>
            </c:numRef>
          </c:val>
        </c:ser>
        <c:ser>
          <c:idx val="7"/>
          <c:order val="7"/>
          <c:tx>
            <c:strRef>
              <c:f>label 7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aecf0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ОСВЕЩЕНИЕ</c:v>
                </c:pt>
                <c:pt idx="1">
                  <c:v>СПОРТ</c:v>
                </c:pt>
                <c:pt idx="2">
                  <c:v>ГРАДОСТРОИТЕЛЬСТВО</c:v>
                </c:pt>
                <c:pt idx="3">
                  <c:v>ГАЗИФИКАЦИЯ</c:v>
                </c:pt>
                <c:pt idx="4">
                  <c:v>ГО И ЧС</c:v>
                </c:pt>
                <c:pt idx="5">
                  <c:v>ПОЖАР.БЕЗОПАС.</c:v>
                </c:pt>
                <c:pt idx="6">
                  <c:v>ДОРОГИ</c:v>
                </c:pt>
                <c:pt idx="7">
                  <c:v>БЛАГОУСТРОЙСТВО</c:v>
                </c:pt>
                <c:pt idx="8">
                  <c:v>ЦЕЛЕВЫЕ ПРОГРАММЫ</c:v>
                </c:pt>
                <c:pt idx="9">
                  <c:v>КУЛЬТУРА</c:v>
                </c:pt>
              </c:strCache>
            </c:strRef>
          </c:cat>
          <c:val>
            <c:numRef>
              <c:f>7</c:f>
              <c:numCache>
                <c:formatCode>General</c:formatCode>
                <c:ptCount val="10"/>
                <c:pt idx="6">
                  <c:v>1.8</c:v>
                </c:pt>
              </c:numCache>
            </c:numRef>
          </c:val>
        </c:ser>
        <c:ser>
          <c:idx val="8"/>
          <c:order val="8"/>
          <c:tx>
            <c:strRef>
              <c:f>label 8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4b1f6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ОСВЕЩЕНИЕ</c:v>
                </c:pt>
                <c:pt idx="1">
                  <c:v>СПОРТ</c:v>
                </c:pt>
                <c:pt idx="2">
                  <c:v>ГРАДОСТРОИТЕЛЬСТВО</c:v>
                </c:pt>
                <c:pt idx="3">
                  <c:v>ГАЗИФИКАЦИЯ</c:v>
                </c:pt>
                <c:pt idx="4">
                  <c:v>ГО И ЧС</c:v>
                </c:pt>
                <c:pt idx="5">
                  <c:v>ПОЖАР.БЕЗОПАС.</c:v>
                </c:pt>
                <c:pt idx="6">
                  <c:v>ДОРОГИ</c:v>
                </c:pt>
                <c:pt idx="7">
                  <c:v>БЛАГОУСТРОЙСТВО</c:v>
                </c:pt>
                <c:pt idx="8">
                  <c:v>ЦЕЛЕВЫЕ ПРОГРАММЫ</c:v>
                </c:pt>
                <c:pt idx="9">
                  <c:v>КУЛЬТУРА</c:v>
                </c:pt>
              </c:strCache>
            </c:strRef>
          </c:cat>
          <c:val>
            <c:numRef>
              <c:f>8</c:f>
              <c:numCache>
                <c:formatCode>General</c:formatCode>
                <c:ptCount val="10"/>
              </c:numCache>
            </c:numRef>
          </c:val>
        </c:ser>
        <c:gapWidth val="100"/>
        <c:shape val="box"/>
        <c:axId val="39353354"/>
        <c:axId val="47404428"/>
        <c:axId val="0"/>
      </c:bar3DChart>
      <c:catAx>
        <c:axId val="3935335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04428"/>
        <c:crosses val="autoZero"/>
        <c:auto val="1"/>
        <c:lblAlgn val="ctr"/>
        <c:lblOffset val="100"/>
        <c:noMultiLvlLbl val="0"/>
      </c:catAx>
      <c:valAx>
        <c:axId val="47404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МИЛ.РУБЛЕЙ
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53354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76C-B109-4BDE-8A02-6F6E3A8A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669-552C-4FAB-8235-5C80E08B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8C0-BEC1-4C84-9C02-83B22570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596-9D4E-4913-B607-8F7D7F00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C6B-BBBE-43B3-91ED-541C2005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EF6-90C6-465B-8AD2-D1F19A43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C90-F8ED-4661-8225-CBBDEDE9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DF6-86BD-4E60-81A4-4B37C2D3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C80-B5FA-4D09-BA8A-059D17B7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2B4-37DB-46D8-9E9B-E81B1B79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4AA-2B13-40DC-B113-DC5F147A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38E-E928-4536-BFDC-D8F3BBB1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BCED3-688E-412F-8EA7-CD5D418CE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ХОДЫ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юджета поселения 201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80160" y="1844280"/>
            <a:ext cx="3224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СХОДЫ ЗА 2012 г исполнены с сумме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18,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млн.р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том числе средства краевого и районного бюджета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7,7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млн.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7200" y="1741320"/>
          <a:ext cx="6551640" cy="5435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Марина Боровец</cp:lastModifiedBy>
  <cp:lastPrinted>2013-03-06T10:27:13Z</cp:lastPrinted>
  <dcterms:modified xsi:type="dcterms:W3CDTF">2014-04-08T06:36:26Z</dcterms:modified>
  <cp:revision>4</cp:revision>
  <dc:subject/>
  <dc:title/>
</cp:coreProperties>
</file>